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36519"/>
        <c:axId val="24505519"/>
      </c:barChart>
      <c:catAx>
        <c:axId val="70936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05519"/>
        <c:crosses val="autoZero"/>
        <c:auto val="1"/>
        <c:lblAlgn val="ctr"/>
        <c:lblOffset val="100"/>
        <c:noMultiLvlLbl val="0"/>
      </c:catAx>
      <c:valAx>
        <c:axId val="245055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36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755-5ED5-4A90-834D-9D6902CE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38B-9EE2-4CEC-BC44-8E2A36A6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3ED-623A-42E3-B08C-3247E703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7EA-98D3-44E8-AF45-7E90C4E9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55B-E2C9-4C97-86F8-7837A055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D99-8E2C-4EDC-83D4-3E122E24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50F-08C3-449B-819C-5ABE0C0B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C14-B136-490D-87D8-97AE81FA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7C7-AEA4-4C05-9A18-AF21D42C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B1B-4C97-4997-8FA9-278D7F9D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BFE-A2B7-4FD5-B7D5-19986230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40E-9DFB-4FF8-8B74-B29267AF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22E85-D080-428B-A6A4-C754C998C0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