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69179"/>
        <c:axId val="53639918"/>
      </c:barChart>
      <c:catAx>
        <c:axId val="74769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9918"/>
        <c:crosses val="autoZero"/>
        <c:auto val="1"/>
        <c:lblAlgn val="ctr"/>
        <c:lblOffset val="100"/>
        <c:noMultiLvlLbl val="0"/>
      </c:catAx>
      <c:valAx>
        <c:axId val="53639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69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FF9-D979-403E-9A1A-134F4819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327-25B4-4354-A46A-36C35EE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DBF-8FDC-40AA-AFD0-A963D50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5CA-17EB-44EB-8BC1-24053392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AF2-F2ED-4972-8FBE-D6F8871C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1D2-2D9F-47E9-B433-CAC948F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4EB-3289-4A9A-B558-ED15EF9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038-A236-4F43-92F4-579E5BB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AE0-0FCC-4DDD-9286-152E0F2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FF1-EF7A-4984-A4DB-0547DAB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721-7A9F-42C8-9484-6441AFD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F41-2283-4A86-A2EB-4CDEC60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D6693-9F0A-4C24-99D3-C747D7EEC8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