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565970"/>
        <c:axId val="45731590"/>
      </c:barChart>
      <c:catAx>
        <c:axId val="235659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31590"/>
        <c:crosses val="autoZero"/>
        <c:auto val="1"/>
        <c:lblAlgn val="ctr"/>
        <c:lblOffset val="100"/>
        <c:noMultiLvlLbl val="0"/>
      </c:catAx>
      <c:valAx>
        <c:axId val="457315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659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52CA-6D7F-41BE-BA2B-37EE7F1D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EA7-FBEA-4576-922A-DCCE87D5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874-ECD8-45F7-AA9C-3D2E157B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FFF8-DB2F-4E5D-9558-4049371F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13D-F893-41B8-B9BE-AD8E7DDA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D754-8509-4945-9D1C-70D4C3E8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15B-64D4-4582-927D-65636C04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41E-C14E-432B-8A3B-D81E2CE9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31EC-863B-4550-9A87-488DB1F6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D5FD-CA57-45DC-8D60-FA6448BE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9E65-2F7A-4E42-BA00-CD48F40D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40D-BD24-42A5-8D7F-F306EC24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ACDF4-0683-484B-9452-9B929C1E24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