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13538"/>
        <c:axId val="89383349"/>
      </c:barChart>
      <c:catAx>
        <c:axId val="54613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83349"/>
        <c:crosses val="autoZero"/>
        <c:auto val="1"/>
        <c:lblAlgn val="ctr"/>
        <c:lblOffset val="100"/>
        <c:noMultiLvlLbl val="0"/>
      </c:catAx>
      <c:valAx>
        <c:axId val="893833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13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903-2184-41BC-9936-F154D80E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CF7-ACA2-46FB-A759-528C72A4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C17-5207-495B-B4DE-FABE09AD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5AB-28D6-4574-9306-4C004B68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8A2-FDDC-4507-A44C-B736CDF2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3E1-9AC9-42D8-A9EB-499AA5DD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407-47FE-46B1-BA25-C779C7A8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A84A-890F-424F-82CD-804871FD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AEC-1B57-4280-B04B-318C1B00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98E-7C77-48C2-9467-3BABB5E9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8FF-3C32-4FAE-9DE1-04459348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5E9-8F81-47D1-9538-D4741F1F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71E69-881D-4EAF-BCCB-0BE6AFFBE3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