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74301"/>
        <c:axId val="4709201"/>
      </c:barChart>
      <c:catAx>
        <c:axId val="40874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9201"/>
        <c:crosses val="autoZero"/>
        <c:auto val="1"/>
        <c:lblAlgn val="ctr"/>
        <c:lblOffset val="100"/>
        <c:noMultiLvlLbl val="0"/>
      </c:catAx>
      <c:valAx>
        <c:axId val="4709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74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D35-E5AF-433D-A42A-8071A0E9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6C6-CC92-4BB5-BCB2-FD762883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421-AD85-42B9-8753-ABABAF6C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805-C5F9-469B-81A3-58F420BE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22F-06D3-4CC7-BFA4-8E71830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CC9-A172-4DCA-A8B4-3B99699A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F14-0DD9-4567-B04C-7788342C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BB0-6493-4B7D-913B-A942A286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818-48A1-4B53-845D-1053EDA8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061-EE7B-4BAD-B9E3-608B606E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6D5-C505-4777-89F9-66BF56DB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EA5-6687-47E2-9097-465E4D26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31432-1988-41D2-9F24-5DD2CB3CD2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