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65933"/>
        <c:axId val="23835844"/>
      </c:barChart>
      <c:catAx>
        <c:axId val="4666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35844"/>
        <c:crosses val="autoZero"/>
        <c:auto val="1"/>
        <c:lblAlgn val="ctr"/>
        <c:lblOffset val="100"/>
        <c:noMultiLvlLbl val="0"/>
      </c:catAx>
      <c:valAx>
        <c:axId val="23835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595-D49B-43C4-B1F9-6D0A0BEC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795-A432-4EE2-96B1-90CD43B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8B0-F84B-4E24-A4E9-54672B8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818-FB7F-43A0-89AE-E61C3619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EE5-BA30-4FC0-8858-E0001178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91C-202E-4BA3-B048-7CAEE0CE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5BC-B6C3-4CC5-8343-02CA7A40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2A2-7BC0-4042-A6A6-547482D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B76-8430-408A-93DB-E3EC20A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7E3-C6C9-4782-8851-C7B02DF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1BD-DE37-44FE-BB3F-B708AEE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75D-FC1D-4B28-87ED-5DA5315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B1908-A9E2-4543-A70D-C6BF87E132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