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6191"/>
        <c:axId val="11457924"/>
      </c:barChart>
      <c:catAx>
        <c:axId val="2776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57924"/>
        <c:crosses val="autoZero"/>
        <c:auto val="1"/>
        <c:lblAlgn val="ctr"/>
        <c:lblOffset val="100"/>
        <c:noMultiLvlLbl val="0"/>
      </c:catAx>
      <c:valAx>
        <c:axId val="11457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6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53D-B789-41FE-86DB-A991AA80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720-2300-4C15-87DA-9C645E16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8AC-ABC1-4BE3-AE79-2ADCEBCE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377-10CA-47C6-B34C-BC88C6CF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AE0-BAF0-4181-A92D-675F41E5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235-80C2-460D-9A72-8B94E926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CD7-94C8-4732-8954-1D982697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E52-2815-4A77-A8B3-63986A25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7F0-1065-4581-AF42-314A184F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6F8-35F2-4FF9-BE96-BF27A58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F41-3511-446A-93BB-5E3AFEF9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28C-A23A-472C-8AAB-5B7BCAB6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55B32-696F-4AB3-B9A1-76E1DCC0BA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