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41174"/>
        <c:axId val="64081428"/>
      </c:barChart>
      <c:catAx>
        <c:axId val="58941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1428"/>
        <c:crosses val="autoZero"/>
        <c:auto val="1"/>
        <c:lblAlgn val="ctr"/>
        <c:lblOffset val="100"/>
        <c:noMultiLvlLbl val="0"/>
      </c:catAx>
      <c:valAx>
        <c:axId val="64081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41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4E6-3FA7-43AA-AA2C-3A53E495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EF0-B662-4A34-931F-B79BCD0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569-F4B8-408C-8526-2622E457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F9D-8863-4B9B-B96C-A42879FA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6629-FE0F-4868-8AC8-F5C58DB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FE1-A088-48A0-BEEB-3FCD501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7A8-A84E-4E84-9C92-F99D848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028-EEA9-4394-9740-A9E8CFC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CB15-E5FA-46D4-902D-104093EA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ED7-A12B-4423-A6E7-00A2D62B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411-48F4-465E-85DB-4DCDB728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DD7-5CD9-44CC-8178-79D366D1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3DD6-2F48-43FB-BAE0-C462D0F67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