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82921"/>
        <c:axId val="56053953"/>
      </c:barChart>
      <c:catAx>
        <c:axId val="74382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53953"/>
        <c:crosses val="autoZero"/>
        <c:auto val="1"/>
        <c:lblAlgn val="ctr"/>
        <c:lblOffset val="100"/>
        <c:noMultiLvlLbl val="0"/>
      </c:catAx>
      <c:valAx>
        <c:axId val="56053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82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0AA-EF7C-4FB9-82E3-B0301004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677-B040-49F8-9BB0-FE4A566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971-B72B-4523-91C1-7A7897B1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3BC-7C49-4BC5-BBB4-1D1070BC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230-B7C0-46AE-A9B6-4D28C683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52E-C084-477D-A8F4-CB707DEC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23A-BD22-457E-8FEB-A6358F5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4FA-3810-4E08-A3FF-F8C0D17B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78B-0C4F-4184-B068-C62D50ED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E7A-2952-48C3-85F0-29816E77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B0A-05EF-4CB2-BBAD-9E90D60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3B4-FFCB-47B7-BA06-0E39B6B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5329F-EEEC-4E79-B712-4818119DA7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