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55958"/>
        <c:axId val="22385660"/>
      </c:barChart>
      <c:catAx>
        <c:axId val="47255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5660"/>
        <c:crosses val="autoZero"/>
        <c:auto val="1"/>
        <c:lblAlgn val="ctr"/>
        <c:lblOffset val="100"/>
        <c:noMultiLvlLbl val="0"/>
      </c:catAx>
      <c:valAx>
        <c:axId val="22385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5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3E4-D253-4EAA-88EC-D784892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C26-C666-40DA-A59A-6C9FA31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D81-5F3F-4A99-B150-6BF4D71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E44-FD48-4D45-9F36-DE83ACC8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79A-C01B-441F-B59D-8548043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0A2-07BF-4AEE-AADE-837490EA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623-D230-4DA5-A50C-04BD323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092-F68A-4F2C-A07A-FA3474D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401-7F47-49D1-B6A6-2FF2CC0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9AE-B17E-44C9-88C9-720C19F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185-245C-4AB0-9FA4-034B2C5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64E-85F5-47BF-8355-B217BD3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95A3-D082-48BA-9F00-77CACD51B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