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46206"/>
        <c:axId val="38238863"/>
      </c:barChart>
      <c:catAx>
        <c:axId val="37646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38863"/>
        <c:crosses val="autoZero"/>
        <c:auto val="1"/>
        <c:lblAlgn val="ctr"/>
        <c:lblOffset val="100"/>
        <c:noMultiLvlLbl val="0"/>
      </c:catAx>
      <c:valAx>
        <c:axId val="38238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46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EEC-98C8-4BB0-A2EB-C3C78796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8C9-407D-4253-B111-A2F26F64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3F4-09D6-4BFE-B554-2A5CBF88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F80-F86B-40CE-A78E-5D6E4F39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F46-53ED-47B0-985A-2CDCED6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A6A-827A-4D92-A769-FCBEFC7B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952-C4FC-422F-AFE4-D9E6B057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666-0C62-42D4-AB25-D0372552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A98-9453-4C67-90D5-29F47D90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D4C-6A06-4097-859F-9749361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1B2-EE8D-4B2B-B18B-A4326B15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106-6746-486C-9C15-C1D86145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9E5C7-EAE6-4029-A617-1A1CC7C767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