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34565"/>
        <c:axId val="43075883"/>
      </c:barChart>
      <c:catAx>
        <c:axId val="32234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75883"/>
        <c:crosses val="autoZero"/>
        <c:auto val="1"/>
        <c:lblAlgn val="ctr"/>
        <c:lblOffset val="100"/>
        <c:noMultiLvlLbl val="0"/>
      </c:catAx>
      <c:valAx>
        <c:axId val="43075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34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EC5-C7F8-46FF-B5D0-4F251ACE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454-0F15-416C-95A4-393D3EF1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685-546B-412B-BD27-E19963FD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F03-689A-4467-A152-4A6C2F1F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314-25C5-428D-95E2-D78A6013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F1B-2E0E-46CC-AFEA-1DDAAD3E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050-3DCD-4B5D-BE45-80CF0EEA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D6C-B1A9-4574-B271-33FC8FCC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02B-FCEA-442C-B945-28EAD84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32B-B057-4F9A-9B5B-7BA3E74E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F7C-A297-4F99-90EE-B3AD546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9E8-D642-4E4E-B07A-902F996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080EC-01C7-4FCC-97AA-5807F34ADC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