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03848"/>
        <c:axId val="33751879"/>
      </c:barChart>
      <c:catAx>
        <c:axId val="54003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51879"/>
        <c:crosses val="autoZero"/>
        <c:auto val="1"/>
        <c:lblAlgn val="ctr"/>
        <c:lblOffset val="100"/>
        <c:noMultiLvlLbl val="0"/>
      </c:catAx>
      <c:valAx>
        <c:axId val="33751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03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4DF-2158-4A14-BDCE-1E075AE7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05C-73D7-4881-A7DE-04C70F12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FDD-B5AE-4337-A4B5-86D48656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21C-8FCC-4628-A19D-E5433F95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1BA-B30E-45D5-B022-F4AF4745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A3B-F834-4C25-83A8-F3B8E985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CC8-4143-4135-A8CC-0DBAF012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CDC-D41F-4E83-9944-6AF183C0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D5B-CCF2-4C57-BABF-45DE9ABE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788-FF0E-4F46-854E-1240C87F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E5C-B546-4118-B4FD-3C62B508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91C-EEA0-4CAD-8D90-D017654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7ED61-CC29-4B81-AED8-1952D28213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