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561648"/>
        <c:axId val="55418880"/>
      </c:barChart>
      <c:catAx>
        <c:axId val="20561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18880"/>
        <c:crosses val="autoZero"/>
        <c:auto val="1"/>
        <c:lblAlgn val="ctr"/>
        <c:lblOffset val="100"/>
        <c:noMultiLvlLbl val="0"/>
      </c:catAx>
      <c:valAx>
        <c:axId val="55418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561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52C9-0A2E-41B2-80BB-84407BE1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664-4141-4D34-B87A-ABE3CF6C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E94-6C10-44D7-99A9-3F68A7CD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7A8-CFB1-4252-9122-6D0BF5A5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E9D-C6F7-4485-998E-B7F268E4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F7D-8415-43AC-A4F8-1E0CDE8C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21-474E-4AF0-979E-36A58017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5B9F-D69C-4F9F-8FBC-90F2377A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B2F5-BFFA-45E6-B8FF-83CBD08B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A59-B15D-4CBE-A38C-4D8F1CC0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9B8-D409-4438-A590-C803F50A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6DD-1A47-4ABC-A20A-2CECE25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8043B-EE08-41C1-B75A-829E4697EC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