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528649"/>
        <c:axId val="17802310"/>
      </c:barChart>
      <c:catAx>
        <c:axId val="915286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02310"/>
        <c:crosses val="autoZero"/>
        <c:auto val="1"/>
        <c:lblAlgn val="ctr"/>
        <c:lblOffset val="100"/>
        <c:noMultiLvlLbl val="0"/>
      </c:catAx>
      <c:valAx>
        <c:axId val="178023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286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5DDC-A33A-48B9-B8E6-DA464EF0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86ED-3B17-4AA5-AC99-82E9A9DB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FE98-69A2-40C1-AFC6-B38D059B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29BC-7B96-45CB-8333-69D9F5FD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D56F-5972-4F5F-8719-C2FC8205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C9CC-5558-4465-9B84-A1A38CE3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D641-BD81-4DAA-84A3-CFBB1DA4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2D36-42FF-4FB3-8FA0-FD3ADFEF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763F-C18E-42DB-9BCC-57409674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75AD-7507-4967-9108-E9E1DA50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82AC-F058-405B-BEF0-548C5A8A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2BCD-DE98-43D6-9680-DEE34ED6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5601A-A865-40FB-B670-CE83E0FB03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