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45211"/>
        <c:axId val="81803160"/>
      </c:barChart>
      <c:catAx>
        <c:axId val="98845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03160"/>
        <c:crosses val="autoZero"/>
        <c:auto val="1"/>
        <c:lblAlgn val="ctr"/>
        <c:lblOffset val="100"/>
        <c:noMultiLvlLbl val="0"/>
      </c:catAx>
      <c:valAx>
        <c:axId val="81803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45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F95-E840-4E18-B2F4-52C184AE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9FD-4C8B-492E-949D-2EA51B30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47B-91F6-4838-A592-CA91869F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0B5-B06C-478C-970D-77289C11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60B-CFEC-483C-96DD-4D55380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D54-4E6D-4D0B-84F5-8679F0B4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289-B0EB-4717-B15C-B80ACF3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489-D0B5-4885-ACC8-C2476CDA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F14-5038-4914-B1A6-8862B957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B29-E67D-4AA1-A794-EFD3DA1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B4E-A5F8-45C9-857F-55C1B0A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64E-9BA3-4813-A257-BA476BD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537E2-095E-41D7-8021-05B78A218F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