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03781"/>
        <c:axId val="80460561"/>
      </c:barChart>
      <c:catAx>
        <c:axId val="48703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60561"/>
        <c:crosses val="autoZero"/>
        <c:auto val="1"/>
        <c:lblAlgn val="ctr"/>
        <c:lblOffset val="100"/>
        <c:noMultiLvlLbl val="0"/>
      </c:catAx>
      <c:valAx>
        <c:axId val="804605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03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EC1-86D9-4084-B0D4-D8147EDFD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2D9-8B22-4EA5-8135-0A06FFCC6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937-50FE-49A3-83F4-692BBA40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788-A060-4F16-8DE2-7CD50BB9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778C-08C2-44A4-B07E-44B6066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4E2-CD19-456F-9E7F-0D228BA0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F35-43F2-4576-A699-C110FBB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68E-0570-4076-879C-64731368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5BAD-FA31-4BC3-A59D-A735EAE8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E88-BFEC-467F-8222-E122049C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9D0-6F56-4143-A22A-2977DA47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2283-6909-429C-AA44-180DC06E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D76A3-7F1D-4EFD-BFB0-600EBBA3E4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