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0468803"/>
        <c:axId val="47069317"/>
      </c:barChart>
      <c:catAx>
        <c:axId val="3046880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069317"/>
        <c:crosses val="autoZero"/>
        <c:auto val="1"/>
        <c:lblAlgn val="ctr"/>
        <c:lblOffset val="100"/>
        <c:noMultiLvlLbl val="0"/>
      </c:catAx>
      <c:valAx>
        <c:axId val="4706931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46880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3059-65A8-4E62-929B-DDE3A0808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A897-7B4C-40FD-81A4-C74332E6F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20C0-4C24-4D81-B8C0-75F2DDB9F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016F-39C8-4285-8A74-48243DF90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B044-9A97-412B-A91C-C177CDA02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4021-F31F-4F1E-9C7D-E2292FA49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9089-302A-4841-81EB-F9DDDBB17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133F-8136-4FF6-BF79-B6FE4965C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E379-912C-49F8-8EC5-41D7FE16F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4810-251B-487D-9ED9-3977E3E1E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25EF-CED1-463D-8A92-E41521769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E5E0-4840-49E0-A27F-A9FE131E8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38CFE5-325B-4E02-851A-8D041F2AFA7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