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090628"/>
        <c:axId val="52982285"/>
      </c:barChart>
      <c:catAx>
        <c:axId val="170906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982285"/>
        <c:crosses val="autoZero"/>
        <c:auto val="1"/>
        <c:lblAlgn val="ctr"/>
        <c:lblOffset val="100"/>
        <c:noMultiLvlLbl val="0"/>
      </c:catAx>
      <c:valAx>
        <c:axId val="529822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0906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4EA9-02B2-4EFC-85D1-FFFA13009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0472-ECB1-4FDF-B80F-9298FF96E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1D8C-DDA8-4B47-895C-DBBB48793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38D9-8510-495D-97EB-BE1C926F5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6769-8858-4EAE-ABB1-63FE0BB7F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2FBE-F78B-41FE-A2BC-3AFB91D87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ABC5-907F-4E27-B21E-ECEEDEBB4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84C2-7C8C-4518-BA57-D647D483D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B007-6C27-4F2F-8CB8-C01746CB6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5D16-6A81-45AF-8EC0-E547ACCBE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B0F9-D7CA-4860-90B2-9682346F1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B1A3-5802-4B71-A1DD-5CA962FE2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4E69F2-CE06-4D0F-9519-8BA446A94ED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