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29829"/>
        <c:axId val="29063388"/>
      </c:barChart>
      <c:catAx>
        <c:axId val="14229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3388"/>
        <c:crosses val="autoZero"/>
        <c:auto val="1"/>
        <c:lblAlgn val="ctr"/>
        <c:lblOffset val="100"/>
        <c:noMultiLvlLbl val="0"/>
      </c:catAx>
      <c:valAx>
        <c:axId val="29063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29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AA9-2399-4089-A5A5-2AFD6E2C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BB6-EE3F-4F9B-8822-4558A8F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719-C1BC-41C8-B82B-C7AAD158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5F2-D250-45C4-B50E-0E7CFEE9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CDA-48EF-4ADA-988A-9EEB82B1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723-19E3-4B65-8D1E-2248B9D0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47A-BD96-42EC-A67A-240FF7B6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DF5-1305-4E3C-9939-DACBE9F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887-04D4-4B1E-9DE2-55230F06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606-4871-433D-A100-158CD094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B2D-3000-4321-A27C-746151CA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62E-34FB-42CE-B4E4-F2D8BFB5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520B2-A656-4BB0-99C2-C5F1C9DC61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