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68472"/>
        <c:axId val="90736281"/>
      </c:barChart>
      <c:catAx>
        <c:axId val="77268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6281"/>
        <c:crosses val="autoZero"/>
        <c:auto val="1"/>
        <c:lblAlgn val="ctr"/>
        <c:lblOffset val="100"/>
        <c:noMultiLvlLbl val="0"/>
      </c:catAx>
      <c:valAx>
        <c:axId val="90736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8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710-3DCB-4A5E-820D-43B0DD8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439-33E7-40C5-A744-278E29F9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35C-15DA-45C5-BAF6-A2328767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885-C768-4C44-A13A-9D82A8A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F60-48D8-4E23-869E-949547EF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893-EF7C-4D74-B6EE-01E8435A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D56-B728-4A3E-9264-52A55CC5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877-2625-4134-9C2E-1CC9036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98A-58F5-4503-BDEC-73C88FE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70B-0FB4-4079-871C-6A8095E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0CD-E40B-4C53-86CB-1427D45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C1A-DE07-426D-9B29-0B75184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3EB03-279D-490D-B1F7-509B15353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