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913388"/>
        <c:axId val="81306122"/>
      </c:barChart>
      <c:catAx>
        <c:axId val="909133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06122"/>
        <c:crosses val="autoZero"/>
        <c:auto val="1"/>
        <c:lblAlgn val="ctr"/>
        <c:lblOffset val="100"/>
        <c:noMultiLvlLbl val="0"/>
      </c:catAx>
      <c:valAx>
        <c:axId val="813061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133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BAAB-D0C6-420D-9050-C400E4F30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ACB1-7B8E-4B40-AD3A-B4C2FE8D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17A3-840B-43B3-A093-92CB4126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684B-BF68-4B84-988F-86E15A35E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1184-779B-43D4-B941-E521D519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91D9-44D0-488B-B363-1CC547ED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A1EC-B417-4B90-BAC1-B800E41B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CA6C-0D9F-441C-9FFE-D6390406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29F6-26E4-4A22-838A-3E381E46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6022-B0B1-4DA7-AF0D-1A35F5B2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F94E-6D61-46F0-B947-0AA3AD22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A5BC-866D-4C5A-873F-0A5FF76D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31370-40B2-47E1-8D2A-E2F2554991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