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643901"/>
        <c:axId val="54134591"/>
      </c:barChart>
      <c:catAx>
        <c:axId val="856439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134591"/>
        <c:crosses val="autoZero"/>
        <c:auto val="1"/>
        <c:lblAlgn val="ctr"/>
        <c:lblOffset val="100"/>
        <c:noMultiLvlLbl val="0"/>
      </c:catAx>
      <c:valAx>
        <c:axId val="541345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6439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3AFB-65FB-4234-A4BD-337EDF3CE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368A-C852-4C8B-AF4F-B74B65920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5306-987E-455C-8B02-DC3622BEF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B951-D086-4764-8120-33687D207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0793-C83C-4974-9B58-9DC8428CE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0689-99D5-4E38-8369-EF9AE7953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7478-169D-45EF-9B35-E8417DD45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18C2-FDB4-440D-86D5-D703DF5FE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C372-37BF-42BD-A21C-94FC73F6D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5C65-32B6-4D41-9F7E-E577DDAF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F865-1B69-4E4C-8D53-D4934BF0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374C-90EA-4C4A-836C-F10923B1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596B41-AEF0-4C89-A8F5-24FD15B8ED1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