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05157"/>
        <c:axId val="45561174"/>
      </c:barChart>
      <c:catAx>
        <c:axId val="550051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61174"/>
        <c:crosses val="autoZero"/>
        <c:auto val="1"/>
        <c:lblAlgn val="ctr"/>
        <c:lblOffset val="100"/>
        <c:noMultiLvlLbl val="0"/>
      </c:catAx>
      <c:valAx>
        <c:axId val="455611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051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4F0C-6EC7-4E26-B507-CEBA4C58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7A81-7E71-42DE-A6EC-3C3D8B9C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37B-EC76-4583-88F6-CF48EB6A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115-34F0-4CAE-9E71-7AFF7CA0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E72-77A0-426B-99A4-73647CB4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850-3888-4D06-A060-9110E128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7FED-877A-4F03-A812-965F4468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3D4-87D2-4857-ADF0-0E299EAA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89F-F291-4ED7-8657-DE8750ED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3B83-39CB-46A6-A683-166C508E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4D0A-70FE-4F79-8C8D-9E2685B5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5B8-2EA9-452E-981F-07621F31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1B133-1D0F-4A09-9A60-2A1BA4A566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