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6815329"/>
        <c:axId val="43473913"/>
      </c:barChart>
      <c:catAx>
        <c:axId val="2681532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473913"/>
        <c:crosses val="autoZero"/>
        <c:auto val="1"/>
        <c:lblAlgn val="ctr"/>
        <c:lblOffset val="100"/>
        <c:noMultiLvlLbl val="0"/>
      </c:catAx>
      <c:valAx>
        <c:axId val="4347391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81532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1DF56-4937-494D-B1D6-63973D2E4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FB098-7CD4-40DC-ADC3-02C97D3AE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DFFBD-A800-4D49-9C68-E24837852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A94BE-7BCF-4E15-86AD-D229A983D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6DBA2-60C6-4600-BE8A-ACE258BCE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2460E-DB5F-4383-AD96-8C170DF97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E48DD-300C-4C49-98F7-7848D8932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9E91A-2CBE-4BB9-9E57-AAFFC4036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8A220-B8E1-4962-ADAD-CA263CB5F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4CC8A-F0B1-4549-9761-F01A5F865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06E27-F32E-43B1-BC3A-8C3AF7E4C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585D4-68DD-4E00-B8D0-E870F8CBB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FE88CB-DDD5-45FC-94F5-0E14B397A52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