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46462"/>
        <c:axId val="19190429"/>
      </c:barChart>
      <c:catAx>
        <c:axId val="76846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90429"/>
        <c:crosses val="autoZero"/>
        <c:auto val="1"/>
        <c:lblAlgn val="ctr"/>
        <c:lblOffset val="100"/>
        <c:noMultiLvlLbl val="0"/>
      </c:catAx>
      <c:valAx>
        <c:axId val="19190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6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106-FA18-4A33-9737-AAF07171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A16-27C7-4268-9064-10107766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0F6-9745-4D00-B173-5EA6B06E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98D-28BB-4544-B46E-BEA93812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BF9-193A-49EB-B2B5-0FDDB197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B0A-1FB0-498B-B9F8-0AD47AA1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54B-BE6F-4B4D-A1F0-5CEBA68D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F31-C51D-4878-BE15-9B91F2E2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F22-80B3-49BF-A0C9-54557DAB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FC0-8F74-4C81-91F7-F301559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635-CB74-46AD-ABC2-8822EA7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864-DF4F-4580-A900-0AF7FDD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EAE48-F63F-4F7A-B6D6-86EF2C27C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