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57576"/>
        <c:axId val="98250701"/>
      </c:barChart>
      <c:catAx>
        <c:axId val="928575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50701"/>
        <c:crosses val="autoZero"/>
        <c:auto val="1"/>
        <c:lblAlgn val="ctr"/>
        <c:lblOffset val="100"/>
        <c:noMultiLvlLbl val="0"/>
      </c:catAx>
      <c:valAx>
        <c:axId val="982507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575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41CD-098C-4081-A2E6-1B09ABAC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E844-899A-4805-91B1-4F98F70B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0316-BA8C-4AE4-806A-1C841F77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2010-4094-40E7-8268-D6358956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FF78-528F-4CE3-AD11-90AE0A9A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BAA6-4A18-4829-A3AD-3BC43EA1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EC34-7958-460E-8253-47154B14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0842-4D45-44B8-ACB5-48D9A4FF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B15-EB7C-40B1-B709-5EDCCC2F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6C14-7D3B-4F69-A593-8228222A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5F9D-DFD3-43CE-BF2B-1F1E7EC8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27DC-F2E7-4300-9358-FCEFA1B3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1B591-9465-4901-92C8-F088491783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