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85890"/>
        <c:axId val="28925362"/>
      </c:barChart>
      <c:catAx>
        <c:axId val="72385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5362"/>
        <c:crosses val="autoZero"/>
        <c:auto val="1"/>
        <c:lblAlgn val="ctr"/>
        <c:lblOffset val="100"/>
        <c:noMultiLvlLbl val="0"/>
      </c:catAx>
      <c:valAx>
        <c:axId val="28925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85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CCE-4779-406D-9B51-65275DFF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28F-F539-4A1A-9303-F7B11550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059-AF38-430B-9040-20C40327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CD3-7E3D-4655-8A14-94F7CD4D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6CA-CB2E-43E9-906F-EFBA1FD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A0C-C788-40A5-B6DD-1EBD4D4F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7CE-ACF4-4713-8D1D-7F656B2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EA7-627D-4CC3-A369-86CD46B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5D3-A930-4E75-8048-7D1413C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3AD-03D9-410A-A3CA-0F34D02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32E-31FD-402E-B694-D83495D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0AC-45BB-4E44-8EED-CD474C3D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51083-C03B-479B-A488-9A8D4C9B3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