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219840"/>
        <c:axId val="79829467"/>
      </c:barChart>
      <c:catAx>
        <c:axId val="242198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829467"/>
        <c:crosses val="autoZero"/>
        <c:auto val="1"/>
        <c:lblAlgn val="ctr"/>
        <c:lblOffset val="100"/>
        <c:noMultiLvlLbl val="0"/>
      </c:catAx>
      <c:valAx>
        <c:axId val="798294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198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9140-EEF1-4E06-BF08-FF52D0E7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A845-2D0E-4AF0-A032-D70B828F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0D13-E825-40FA-BDDE-DF40D0E8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0726-C809-4A50-BB08-29C3C592B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2A31-4457-480F-86F3-7B23B0E27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7800-159C-40B5-A3DE-8176509C9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FD92-09DB-464A-BAE4-F8308F44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ED1-B7CC-4164-8CB7-E67FF1A1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D1C2-2779-4234-8B6F-57B3E1FA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8991-D764-4092-A1C7-CE1DE052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C01C-E1FB-438A-9EAD-1CF2FA475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4CC4-C835-4676-A42A-852054F36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7C5E45-0142-4861-995D-BBA4382A5B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