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16334"/>
        <c:axId val="64105260"/>
      </c:barChart>
      <c:catAx>
        <c:axId val="99616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105260"/>
        <c:crosses val="autoZero"/>
        <c:auto val="1"/>
        <c:lblAlgn val="ctr"/>
        <c:lblOffset val="100"/>
        <c:noMultiLvlLbl val="0"/>
      </c:catAx>
      <c:valAx>
        <c:axId val="64105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16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F78-5F7D-4BF8-9634-AD0B86859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D13-08EA-402B-9A6C-2CBB62D6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CF0-9419-47C3-A75B-99F91FFA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8FE-2A39-4022-B9E0-B4ADFF9E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488-9CBA-49D4-86F2-88BFC667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087-E4EB-4B85-98BF-9CA3BCD6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9498-4B55-4B27-B69D-304CEAB5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FE4-D00F-42AA-B70E-4F572A49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069-BD2B-402C-AD2C-83DB3450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0C0-8615-4BF8-9349-EFA17368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0E70-FE63-4B73-989E-AD8F0B353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B61A-1439-4B3F-9D5C-CDE60DBA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209BB-C80D-47A3-8B67-85F22F08E8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