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3074"/>
        <c:axId val="19179186"/>
      </c:barChart>
      <c:catAx>
        <c:axId val="7733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79186"/>
        <c:crosses val="autoZero"/>
        <c:auto val="1"/>
        <c:lblAlgn val="ctr"/>
        <c:lblOffset val="100"/>
        <c:noMultiLvlLbl val="0"/>
      </c:catAx>
      <c:valAx>
        <c:axId val="19179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3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F5A-8D72-47B5-AF39-7190E9F8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BB4-BF59-4AE9-BF7E-A9D8676D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821-B924-48AC-94F5-AE894F10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BBE-4F35-46F0-8D48-B4F41AC9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409-DCBA-4480-A714-2FB655F3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66B-95B3-44D2-A13E-8C82CBEE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B1C-F038-41E0-BA28-29ABBC8E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A838-6B6D-4D72-A8DE-F7300C63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B6D-10ED-4D8C-BCDB-18010488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A84-8E10-4EF7-A8A7-7A7275E1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B47-FB7C-4F65-9D3E-95161719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B22-98C1-46D8-A161-F444AEBA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52040-9C6F-4947-BC11-FA3E1DF040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