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5634"/>
        <c:axId val="51262063"/>
      </c:barChart>
      <c:catAx>
        <c:axId val="4005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62063"/>
        <c:crosses val="autoZero"/>
        <c:auto val="1"/>
        <c:lblAlgn val="ctr"/>
        <c:lblOffset val="100"/>
        <c:noMultiLvlLbl val="0"/>
      </c:catAx>
      <c:valAx>
        <c:axId val="51262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5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FE0-3886-42D2-B089-83483DC8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65F-9D27-4FF4-B77A-F2B20A0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115-8B05-4ED3-BD90-C56EA2C1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E1F-4229-4285-BDAA-B14F4DF7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C4D-D810-4EB0-A7A2-B9651BAB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174-7AD1-4558-B176-BD8D8AB6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130-EC00-422C-9753-1B6098BD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57E-8C3A-444E-A2F0-5A52B027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7A7-FAB7-4D22-B3C6-B9855E4F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382-FF07-4C97-9A21-228BB96F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C02-F35C-49CF-A4D7-70F21A10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154-1C28-4B95-B526-D44CBDF8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70CD4-C5B9-4FE6-9A17-007E97FD32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