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33867"/>
        <c:axId val="49744714"/>
      </c:barChart>
      <c:catAx>
        <c:axId val="76133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44714"/>
        <c:crosses val="autoZero"/>
        <c:auto val="1"/>
        <c:lblAlgn val="ctr"/>
        <c:lblOffset val="100"/>
        <c:noMultiLvlLbl val="0"/>
      </c:catAx>
      <c:valAx>
        <c:axId val="49744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33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9B6-8036-47AB-B9DC-CCEBD605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ADC-7A49-4B42-B410-0E4FF630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F5E-57BA-4D4B-A18C-BC33B1B8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C26-E57F-42F3-9239-E538D19C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501-9A6C-4B26-B3C5-A5077F7A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2CD-CBCC-4A3A-A404-8C934301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890-9929-4136-9DCC-C102B7AA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FD6-EF70-4FE5-B1E8-9E915AC2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778-3EE8-4431-9198-67445AA6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C2D-CB7A-4025-BE2B-E6FC4084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914-5F94-4540-A0DE-154B65C4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C68-8BD0-4AFA-BBCC-C3C0412E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80F67-1050-49DD-977C-71E6DAA431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