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567228"/>
        <c:axId val="83760113"/>
      </c:barChart>
      <c:catAx>
        <c:axId val="485672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760113"/>
        <c:crosses val="autoZero"/>
        <c:auto val="1"/>
        <c:lblAlgn val="ctr"/>
        <c:lblOffset val="100"/>
        <c:noMultiLvlLbl val="0"/>
      </c:catAx>
      <c:valAx>
        <c:axId val="837601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5672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D691-1264-44FD-8704-BC7131E02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E215-26B9-4227-83B3-4E729EB74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B015-73DB-48DD-8216-6003CA51E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341B-B60A-4896-947B-144F63BDE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C315-E13E-4E03-8734-03C86CBB6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49E0-CF1B-46FF-B0CF-8A954961B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FE66-7EF9-4582-980D-56C760323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D8FD-26A2-43BE-A705-48CFB55F3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9B33-0257-4847-BB8A-3D4C4687E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8F16-91FA-40DE-A49C-2FE3D029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2798-D75D-4342-BB7E-CB1493740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9AD9-2A60-4D55-88C3-AAF8D43EA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5EB2D6-02CE-4730-86BC-0E0B82E2AAC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