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19632"/>
        <c:axId val="87500653"/>
      </c:barChart>
      <c:catAx>
        <c:axId val="86119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00653"/>
        <c:crosses val="autoZero"/>
        <c:auto val="1"/>
        <c:lblAlgn val="ctr"/>
        <c:lblOffset val="100"/>
        <c:noMultiLvlLbl val="0"/>
      </c:catAx>
      <c:valAx>
        <c:axId val="87500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19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013-7667-4881-952E-FF1C5C9B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B99-4897-43DA-83A7-817533EC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900-E235-40BB-87EB-94870690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967-6BD1-416F-BF68-5BBD1092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0E6-1DEA-44E2-87FE-99A30221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FE6-996A-48B4-BAE9-99FB67C3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BC9-400C-408D-AFCF-8E6A3D34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AB2-D07A-4C38-B1B0-7D351706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101-643C-4C63-82CD-AE4EB094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7E4-CB28-48E7-B2D7-BB0CB2FB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163-E74A-4EE8-B3FF-08EEE54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34B-FD00-4E2D-AE4B-40AF82A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96551-0AF6-4ACC-9B9D-57984F8FE9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