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922307"/>
        <c:axId val="33619845"/>
      </c:barChart>
      <c:catAx>
        <c:axId val="50922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19845"/>
        <c:crosses val="autoZero"/>
        <c:auto val="1"/>
        <c:lblAlgn val="ctr"/>
        <c:lblOffset val="100"/>
        <c:noMultiLvlLbl val="0"/>
      </c:catAx>
      <c:valAx>
        <c:axId val="336198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22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FEBC-5C78-425D-B009-7FE06405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D5A-A54E-4DFF-8701-3E0A43E8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B6C-0952-4331-BB1B-F1A8DCBD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1F87-D7CB-4DCC-8DA8-16F20AAB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724-F6C8-4D98-A8B0-61263B67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9815-1D7D-4854-9A1D-9B9D873D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FC6A-0459-4FCF-970C-596D1C56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E8B5-DDE5-4B67-8F87-F70ED97E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B346-C688-4C0E-B8A3-5C91396F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2ADC-713A-494C-BC01-974AD8B2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9B0-91D5-4EDC-B90D-A9D4B5BC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E27C-9128-42CE-8D29-1C45DC14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28CED-DC7A-4D67-8DE2-2376725028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