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00099"/>
        <c:axId val="87789706"/>
      </c:barChart>
      <c:catAx>
        <c:axId val="92100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89706"/>
        <c:crosses val="autoZero"/>
        <c:auto val="1"/>
        <c:lblAlgn val="ctr"/>
        <c:lblOffset val="100"/>
        <c:noMultiLvlLbl val="0"/>
      </c:catAx>
      <c:valAx>
        <c:axId val="87789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00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D79-1296-4187-90BC-6E1A2932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A4B-D926-40D4-AA17-66FAE701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A55-B256-43CF-842F-C25FB8A0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B1B-2B7C-4370-A4FC-23D9D904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84E-AD32-4FEA-87D6-7E39F777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9B5-CD4D-4B0D-AB66-BB800798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6D3-07D3-4D63-B73A-ED4964A2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361-7861-4274-BAFC-45314C30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9AC-A6B0-4561-94A5-4F170065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4D7-DEF6-4D92-AA3E-9F9BBD99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14B-5C94-4A0C-908B-033D156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420-8719-4B95-9AB0-C960790B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2E7D7-C2DD-4370-A6AB-0F094A26FF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