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17697"/>
        <c:axId val="14874626"/>
      </c:barChart>
      <c:catAx>
        <c:axId val="59517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4626"/>
        <c:crosses val="autoZero"/>
        <c:auto val="1"/>
        <c:lblAlgn val="ctr"/>
        <c:lblOffset val="100"/>
        <c:noMultiLvlLbl val="0"/>
      </c:catAx>
      <c:valAx>
        <c:axId val="1487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17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103-C296-44EB-BF0E-8407D6C4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7A8-7C34-425F-ADCB-EA399E51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2D0-F4DF-495F-9B9C-A93BD771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A15-079C-4AE1-85A2-A4C546B2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CC8-5E3E-47C5-9A77-7302604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8C2-91C5-416B-81A9-69BDB359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50D-4C13-4609-B463-74C7637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0AD-7132-48DA-943C-5F71E98B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253-3D15-46E8-90EA-63941AAC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39F-E816-493E-8F6B-1F00CF2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309-A4C3-4DC4-843E-6727220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65A-91CF-48CB-AA42-242DC3AB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D2DA0-D2EA-4844-A14F-D893256D3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