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91687"/>
        <c:axId val="67559799"/>
      </c:barChart>
      <c:catAx>
        <c:axId val="19391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59799"/>
        <c:crosses val="autoZero"/>
        <c:auto val="1"/>
        <c:lblAlgn val="ctr"/>
        <c:lblOffset val="100"/>
        <c:noMultiLvlLbl val="0"/>
      </c:catAx>
      <c:valAx>
        <c:axId val="67559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91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3E2-A8C8-4266-A2DD-C75100C2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843-A26F-471C-8C94-B07FDA0B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696-C44A-4AE8-90F8-94F0FCBF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AEC-13A1-4059-A7FD-B7A2B21C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9BF-E5F9-4594-A9FE-77F34A0D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407-C898-4A44-852D-F47B9DD4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38C-D6CC-4272-874B-5BE9CA70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290-C7AA-4B10-B0DE-440B4D43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401-F8FD-4E93-B79E-8BA788A0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369-BFB0-40FD-84FC-B5D52A92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1EB-32D0-4E6D-8C91-5FC2D3CE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3EB-B8A2-4202-BE9B-41DEB7A1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FE4F0-9D3F-4224-8115-F39EE9112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