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81829"/>
        <c:axId val="55545544"/>
      </c:barChart>
      <c:catAx>
        <c:axId val="83781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45544"/>
        <c:crosses val="autoZero"/>
        <c:auto val="1"/>
        <c:lblAlgn val="ctr"/>
        <c:lblOffset val="100"/>
        <c:noMultiLvlLbl val="0"/>
      </c:catAx>
      <c:valAx>
        <c:axId val="55545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81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B47-1D12-46AE-85BF-5C6C32C2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8AD-DC60-4647-AC5F-18F4A818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23D-90A8-4440-A965-FA85D896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72E-8D09-4716-A6F9-877E2172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8921-B80E-46B5-87F1-2EAC7D5B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D85-29B2-4ED5-B618-D965FEEE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F9A-1B37-4208-A49E-578917FB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2A3-0B33-4ABD-BCBE-E98EB179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1A0-8FAA-499D-BFCA-EFAF8368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F2E-2BCC-4B0F-BE02-A6F158D4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54E-A4AE-4A1D-B1BF-99FFD5D1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6F2-F1C2-49FD-9DEB-471028B9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8D3BE-D456-43CE-BE69-70E12F6CDE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