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651557"/>
        <c:axId val="53203376"/>
      </c:barChart>
      <c:catAx>
        <c:axId val="79651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03376"/>
        <c:crosses val="autoZero"/>
        <c:auto val="1"/>
        <c:lblAlgn val="ctr"/>
        <c:lblOffset val="100"/>
        <c:noMultiLvlLbl val="0"/>
      </c:catAx>
      <c:valAx>
        <c:axId val="53203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51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9D9-5661-41BF-BAAF-D02A92E0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7A9-CB12-43AF-A05B-2EF595A1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B9E-2F75-4337-958E-F1688226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C28-910A-4A18-8615-4A655186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655-B374-4F68-9619-15962027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7E0-F862-4D27-AEB9-4890BE8E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B13-B96C-4CE5-B3D6-938E3EF8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2D6-98E0-4EFF-8ED1-4468B235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FC6-E26A-4DB3-AB67-7A902EAA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DF6-4352-4CDD-A429-A6AF43E2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7AD-74C6-410F-8C6D-7EAAB00E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89A-5673-4716-A01B-CD44E7AF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9257E-6660-4049-833B-01B6AE177C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