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85836"/>
        <c:axId val="39090621"/>
      </c:barChart>
      <c:catAx>
        <c:axId val="58585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90621"/>
        <c:crosses val="autoZero"/>
        <c:auto val="1"/>
        <c:lblAlgn val="ctr"/>
        <c:lblOffset val="100"/>
        <c:noMultiLvlLbl val="0"/>
      </c:catAx>
      <c:valAx>
        <c:axId val="39090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85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33F-E57D-4BFF-A2EC-84250E17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E6D-1597-4419-B322-CCD9A0E4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ED7-EF05-4AD5-B4A1-72AE91B2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143-0B03-4295-9D48-1724F176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8F0-4B9C-413F-BADB-5FD2F52C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26C-62CD-4499-BFE0-09D08DCC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0C1-9B00-4213-8949-ABC2BFF2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FC3-FA67-4322-B604-D1F13ACA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AD8-1488-4198-BE64-7DC6A3D1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B1B-82A4-4EE7-B67C-23F8315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EEA-8223-4912-8308-1718916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652-9B83-4B23-84C2-18C2BE2C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42AAA-37FC-40F6-BE40-5DB489CFFF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